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3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E02-D228-4B07-AC4C-C7ADAB0F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4E7-0EB0-4469-93D4-153D03E1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D79-2131-4D88-8A8A-8D9FF3D7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C1E-9849-42A9-BF34-CA56F101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AC4-E4D4-464D-852B-AD9B132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593-A4E1-4805-9579-39330E4F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A55-E1C7-47E5-87DD-B8C472AF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285-981B-451E-8D20-EC0E5751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A39-FBED-460E-A2FF-D0BB1707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B16-F353-4938-9D32-16F754DF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C88-B40C-49F0-BC06-AAD1901A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853-FCB2-4A23-89BE-808A744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80E1-A6A7-4306-B317-B722701DA59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INTERACTION IN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419360" cy="408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57150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army reduced to 100,000 sold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20720" y="2050920"/>
            <a:ext cx="5997600" cy="2921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1295280" y="1599840"/>
            <a:ext cx="5486400" cy="335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371600"/>
            <a:ext cx="6629400" cy="358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267080"/>
            <a:ext cx="3504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ir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bmarines (6 shi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se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181840" cy="3548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5638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and Austria were forbidden to join. (Anschlu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2171520" cy="3303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1295280"/>
            <a:ext cx="35049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4648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4648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5989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st all overseas col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bright="12000"/>
          </a:blip>
          <a:srcRect l="7133" t="2871" r="6281" b="0"/>
          <a:stretch/>
        </p:blipFill>
        <p:spPr>
          <a:xfrm>
            <a:off x="1447920" y="914400"/>
            <a:ext cx="647676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345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rice of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81480" cy="394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5257800"/>
            <a:ext cx="784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r Basin (coal produ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nch allowed to mine for 1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k all blame for WW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r Guilt Clau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rmany accepts the responsibility of Germany and her allies for causing all the loss and damage which the Allied…Governments and their nationals have been subjected to as a consequence of the war imposed upon them by the aggression of Germany and her alli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was forced to pay reparation payments to the victorious nations. In the amou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90920" y="3048120"/>
            <a:ext cx="398124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$33,000,000,0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572000"/>
            <a:ext cx="3581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g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38440" cy="554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lemenceau, the Va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181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deo: “Make Germany Pa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5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6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I: TOTAL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534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TAL FORCES MOBI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000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AIN AND 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904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410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4,355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0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,0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429000"/>
            <a:ext cx="85341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R 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,700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AIN AND 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907,4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,375,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733,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126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538,3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,219,452 SOLDIERS WERE WO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750,919 WERE COUNTED MISSING OR POW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GRAND TOTAL OF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52480" y="1828800"/>
            <a:ext cx="5410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37,508,686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ad or wounde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4876920"/>
            <a:ext cx="851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1% OF THE SOLDIERS WHO FOUGH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19520" y="5867280"/>
            <a:ext cx="36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,000 PER DAY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Costs of W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FOR ALL ALLIED N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25,690,47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FOR CENTRAL POW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$60,643,16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6,333,63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TOTAL EQUALS APPROXIMATELY…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3809880"/>
            <a:ext cx="46479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$125,000,000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62485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AY OF THE W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714920" cy="3714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ATY OF VERSAILL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aris Peace Conference Jan. – June, 19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057400"/>
            <a:ext cx="358128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nations attended (All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ated pea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“The Big Fou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Lloyd George (Brit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s Clemenceau (Fr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row Wilson (U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torio Orlando (Ita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 (Claus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hineland was to be demilitar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378320" cy="430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1:43:19Z</dcterms:created>
  <dc:creator>Ceara Ormond</dc:creator>
  <dc:description/>
  <dc:language>en-US</dc:language>
  <cp:lastModifiedBy>ripkensa</cp:lastModifiedBy>
  <dcterms:modified xsi:type="dcterms:W3CDTF">2009-03-03T19:12:41Z</dcterms:modified>
  <cp:revision>6</cp:revision>
  <dc:subject/>
  <dc:title>GLOBAL INTERACTION IN THE 20th CENTURY</dc:title>
</cp:coreProperties>
</file>